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848-B4D9-40A8-8D9A-A49D29B9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7B90-DF87-4343-B190-95AE7D00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B2D-101A-4BB3-9ACA-ABD874DA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CEC-D7B6-4946-8A7D-46F0FB6D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38C-D792-4565-9A5B-17221C48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B13B-6A20-4F73-85BD-55A1D699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931C-E7B1-4C33-A089-EA8CCAF2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583-D336-4B8A-9160-614E65F5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4A8-BFB1-4673-8D2B-D38BA108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2DE1-6D1F-4AB8-A067-897DCE70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FB34-297B-468E-A521-836F5E33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AFE-FA22-4800-A328-3E40BDA6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BC29-886D-462E-BF24-E3219FDE22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7800" y="1523880"/>
            <a:ext cx="749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Independen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Bot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Exposure and Disea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136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71625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2238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7619760" cy="64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00200" y="4038480"/>
            <a:ext cx="6324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61976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619760" cy="2238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620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7772400" cy="834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7772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7772400" cy="58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6629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7772400" cy="816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480" y="3581280"/>
            <a:ext cx="7772400" cy="2438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848720" y="5334120"/>
            <a:ext cx="688680" cy="717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7812000" y="3581280"/>
            <a:ext cx="7225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7772400" cy="682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6858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63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4191120"/>
            <a:ext cx="7543800" cy="160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70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11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20:48:35Z</dcterms:modified>
  <cp:revision>215</cp:revision>
  <dc:subject/>
  <dc:title>Slide 1</dc:title>
</cp:coreProperties>
</file>